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ADB1B-BF94-40C6-8DDE-82F1FE7AD2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6DDA1-5818-4436-8D3D-0A252A95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6E101-1A22-4213-AACE-DE85014C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266BF-BB39-4289-B474-394C3789A5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3C3B4-605D-4E23-B58A-FBC7AB32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6E384-C187-4790-B342-9025374D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6CC45-D230-453A-84EF-2FBC95D4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5A9CD-0A85-4771-A697-ADA56A55C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A57C8-1B28-4E19-A647-2D9033D0C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11F60-8226-449A-8B5C-0C1AC048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A0D34-E5CE-4D0A-A102-01F6D3CA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E8F51-D169-4CA3-A26B-A0995AA6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36B5-EC87-4D1D-BC33-D65834BE39F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六节   颈肩腰腿痛的康复护理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588000" y="551664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姚立新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755640" y="256536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颈椎功能的评定：可采用颈椎功能障碍指数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he neck disability index, NDI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评定颈椎的功能情况；或按不同临床类型，采用神经根型颈椎病症状测评量表、椎动脉型颈椎病功能评定量表、脊髓型颈椎病功能障碍评定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JO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来评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纠正不良姿势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电脑操作时的正确姿势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1835280" y="2565360"/>
            <a:ext cx="42494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6920" y="1371240"/>
            <a:ext cx="76327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非甾体类消炎止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激素类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甘露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肌松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改善血液循环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06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颈椎牵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方式：常用枕颌吊带牵引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角度：一般按病变部位而定。如病变主要在上颈段，牵引角度宜采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；如病变主要在下颈段，牵引角度应稍前倾，可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5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之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重量：间歇牵引以自身体重的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宜，持续牵引初始重量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kg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以后逐渐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时间：间歇牵引以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宜，连续牵引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物理治疗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消除神经根及周围软组织的炎症、水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改善脊髓、神经根及颈部的血液供应和营养状态，促进神经和肌肉功能的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缓解颈部肌肉痉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用的方法：直流电离子导入疗法，低、中频电疗法，高频电疗法，磁疗，超声波治疗，蜡疗，激光治疗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48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推拿疗法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纠正颈椎解剖位置的异常，恢复正常的生理曲度及序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扩大椎间隙和椎间孔，缓解肌肉和血管的痉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改善血液循环，增加局部的血液供应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佩戴颈围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限制颈椎过度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减轻头部负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维持正常生理曲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定的撑开牵张作用，减轻神经根和椎动脉受压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松动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用的手法有拔伸牵拉、旋转颈椎、松动棘突横突及椎间关节等手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根据患者的病情，选择相应的分级手法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Ⅳ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级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神经根型颈椎病，有缓解颈部肌肉痉挛、僵硬和疼痛的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784872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注射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段硬膜外腔注射疗法（采用低浓度的局麻药加皮质激素）适用于神经根型、交感神经型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包括颈椎间盘突出症。每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天一次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为一疗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104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避免诱发因素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防止外伤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矫正不良姿势  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高枕致颈椎侧弯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选择合适的枕头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低枕致颈椎侧弯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枕高合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5003640" y="1773360"/>
            <a:ext cx="2876760" cy="1485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2"/>
          <a:stretch/>
        </p:blipFill>
        <p:spPr>
          <a:xfrm>
            <a:off x="1085760" y="4397400"/>
            <a:ext cx="2819520" cy="1485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"/>
          <p:cNvPicPr/>
          <p:nvPr/>
        </p:nvPicPr>
        <p:blipFill>
          <a:blip r:embed="rId3"/>
          <a:stretch/>
        </p:blipFill>
        <p:spPr>
          <a:xfrm>
            <a:off x="4500720" y="4336920"/>
            <a:ext cx="347652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、颈椎病的定义和临床分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、颈部功能障碍的表现和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三、颈椎病康复护理措施及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1116000" y="155736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视青少年颈椎健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颈椎病保健操（见下图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258920" y="2535120"/>
            <a:ext cx="7129440" cy="31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5821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569080" cy="30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椎病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ervical spondylosi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 是由于颈椎间盘退行性改变及其继发性椎体、椎间关节、韧带、肌肉、筋膜等退行性改变而导致神经根、椎动脉、交感神经、脊髓受累引起的一系列临床综合症状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915920"/>
            <a:ext cx="806436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分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型：颈项强直、疼痛，可发展到整个颈肩背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神经根型：颈部活动受限，颈肩部疼痛，或伴上肢放射性疼痛或麻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脊髓型：颈肩痛伴有四肢麻木、肌力减弱，严重者可发展至瘫痪、二便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826920" y="2276640"/>
            <a:ext cx="749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椎动脉型：发作性眩晕、头痛，伴恶心、耳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交感神经型：头痛、视物模糊、眼窝胀痛、心慌、心前区疼痛、肢体发凉、多汗或少汗等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2276640"/>
            <a:ext cx="8299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疼痛与麻木：可见颈肩背和上肢的疼痛和麻木，也可出现胸部疼痛、头痛、枕部疼痛与麻木。颈型、神经根型颈椎病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眩晕：是椎动脉型颈椎病的典型表现，特点是起病突然，常于头转动时发生，当改变这个方向时头晕减轻或消失，严重时可出现晕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938160" y="184464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运动障碍：主要见于脊髓型颈椎病。表现为上肢无力，不能提取重物，手的精细动作欠灵活；下肢沉乏无力、行走不便，甚至不能行走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肌力改变：神经根型颈椎病可出现上肢的肌萎缩，手握力减弱，肱二头肌、肱三头肌反射减弱。脊髓型颈椎病表现为下肢的肌力减弱，肌张力增强，膝腱反射、跟腱反射亢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颈椎X1"/>
          <p:cNvPicPr/>
          <p:nvPr/>
        </p:nvPicPr>
        <p:blipFill>
          <a:blip r:embed="rId1"/>
          <a:stretch/>
        </p:blipFill>
        <p:spPr>
          <a:xfrm>
            <a:off x="250920" y="907920"/>
            <a:ext cx="3313080" cy="3889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颈椎X2"/>
          <p:cNvPicPr/>
          <p:nvPr/>
        </p:nvPicPr>
        <p:blipFill>
          <a:blip r:embed="rId2"/>
          <a:stretch/>
        </p:blipFill>
        <p:spPr>
          <a:xfrm>
            <a:off x="4067280" y="2565360"/>
            <a:ext cx="439236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0920" y="2133720"/>
            <a:ext cx="81565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康复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的评定：采用视觉模拟评分法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visual analog scale, VA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评定疼痛的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椎活动范围的评定：采用量角器对颈椎屈曲、伸展、侧屈和旋转的角度进行具体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8:40:07Z</dcterms:modified>
  <cp:revision>4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